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2C4D-10BF-49EC-A339-FB1513DFB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4817-971F-45F4-A4E1-C942F04FE2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25DC-22EE-47DE-99F9-8B260DB828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4D9E-688F-41EA-9FC6-6E6FF933BA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399A-E565-4961-868E-47EE31077D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0DF4-B778-4A90-9FD1-E1A5A40A73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0389-3AEC-4EC7-9A50-FC3DE3FB03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6C69-D9BF-41C5-810C-94761CA605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6031-B51B-4B1E-B334-F4C56299F0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9131-5F7F-4D4E-A44D-C3C8263DA4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C218-2583-4234-B8D1-E7BE62AAF0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C0F-C9E2-4C46-B539-B8D1C238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928-D945-48CD-9C79-F4A8EDBC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D4C-25BA-4C03-9182-2A0C2CB3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DF9-3DA4-448D-91EC-3F4841D2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612-7336-4DAC-8CE8-CAB4351C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573-AD0D-482A-BC22-943FF909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145F-99DC-4E68-9FE9-833BBBAE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A78-3617-4620-ADA9-B88C5BE9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4BE-FD9D-473B-AB77-1FB2CBDD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80D-73EE-4417-8CE2-20D64BBF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410-A169-4D5F-8B0A-38A965A6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A4F-6DF7-48BF-9493-0F67B68D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A88E-D690-40F9-89E6-FC6E97BADD5B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E41C-644B-4EF3-ADB9-C38836D4AC2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05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The Is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the island 11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the island 12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the island 13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the island 14"/>
          <p:cNvPicPr/>
          <p:nvPr/>
        </p:nvPicPr>
        <p:blipFill>
          <a:blip r:embed="rId1"/>
          <a:stretch/>
        </p:blipFill>
        <p:spPr>
          <a:xfrm>
            <a:off x="380880" y="144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the island 15jpg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the island 16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the island 17jpg"/>
          <p:cNvPicPr/>
          <p:nvPr/>
        </p:nvPicPr>
        <p:blipFill>
          <a:blip r:embed="rId1"/>
          <a:stretch/>
        </p:blipFill>
        <p:spPr>
          <a:xfrm>
            <a:off x="380880" y="144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the island 18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the island 1"/>
          <p:cNvPicPr/>
          <p:nvPr/>
        </p:nvPicPr>
        <p:blipFill>
          <a:blip r:embed="rId1"/>
          <a:stretch/>
        </p:blipFill>
        <p:spPr>
          <a:xfrm>
            <a:off x="380880" y="144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the island 2"/>
          <p:cNvPicPr/>
          <p:nvPr/>
        </p:nvPicPr>
        <p:blipFill>
          <a:blip r:embed="rId1"/>
          <a:stretch/>
        </p:blipFill>
        <p:spPr>
          <a:xfrm>
            <a:off x="380880" y="3240"/>
            <a:ext cx="83822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the island 3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the island 4"/>
          <p:cNvPicPr/>
          <p:nvPr/>
        </p:nvPicPr>
        <p:blipFill>
          <a:blip r:embed="rId1"/>
          <a:stretch/>
        </p:blipFill>
        <p:spPr>
          <a:xfrm>
            <a:off x="380880" y="4680"/>
            <a:ext cx="838224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the island 6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the island 8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the island 9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the island 10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04:00:38Z</dcterms:created>
  <dc:creator>Bryn Evans</dc:creator>
  <dc:description/>
  <dc:language>en-US</dc:language>
  <cp:lastModifiedBy>DP McQuillan</cp:lastModifiedBy>
  <dcterms:modified xsi:type="dcterms:W3CDTF">2011-04-17T02:57:15Z</dcterms:modified>
  <cp:revision>62</cp:revision>
  <dc:subject/>
  <dc:title>PowerPoint Presentation</dc:title>
</cp:coreProperties>
</file>